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  <p:sldId id="281" r:id="rId58"/>
    <p:sldId id="282" r:id="rId59"/>
    <p:sldId id="283" r:id="rId60"/>
    <p:sldId id="284" r:id="rId61"/>
    <p:sldId id="285" r:id="rId62"/>
    <p:sldId id="286" r:id="rId63"/>
    <p:sldId id="28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slide" Target="slides/slide26.xml"/><Relationship Id="rId59" Type="http://schemas.openxmlformats.org/officeDocument/2006/relationships/slide" Target="slides/slide27.xml"/><Relationship Id="rId60" Type="http://schemas.openxmlformats.org/officeDocument/2006/relationships/slide" Target="slides/slide28.xml"/><Relationship Id="rId61" Type="http://schemas.openxmlformats.org/officeDocument/2006/relationships/slide" Target="slides/slide29.xml"/><Relationship Id="rId62" Type="http://schemas.openxmlformats.org/officeDocument/2006/relationships/slide" Target="slides/slide30.xml"/><Relationship Id="rId63" Type="http://schemas.openxmlformats.org/officeDocument/2006/relationships/slide" Target="slides/slide31.xml"/><Relationship Id="rId64" Type="http://schemas.openxmlformats.org/officeDocument/2006/relationships/slide" Target="slides/slide3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F578-E8E9-486E-A682-2E9A24AEE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F336-4772-4D6B-B276-373C9E8A7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D8109D-19A1-4426-B3F8-F2E37FDC0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EA89A0-9D28-4EA6-90AE-EF081B4FE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092368-4239-4415-9C41-BEBB9A787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6BC959-F8DF-4B31-8173-D460B864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DDEE4C-046A-4110-80A8-E3CF7ACD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DEE6D5-005D-45B0-8BB7-A17CC5AB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1C6824-D3A7-4E1A-9640-2264A6BB4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CDDE86-BB9D-4A3B-A6D6-5A3A16FA1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EDCEE5-AA1C-428B-9654-BB6B24B52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16FE49-2A37-4E25-8353-BDA70C9EB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B327-8C40-4920-9F24-C43AE2107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2305FE-75CD-4283-A290-4B95854DA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23E551-39BD-4F82-8C01-3663FC712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DDA0FB-6FCC-49E5-AD63-2064AAC07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C0ED2B-9AC7-4477-BD6D-91D46A3CD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E72985-D1E3-40EA-A61B-B4BBAFC58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E284B2-2884-4D70-BE45-1266673C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AF33B7-7055-4D59-BF03-82C5C9E6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196846-B8A6-4791-92E2-79E3D287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AA8EDB-F3ED-4529-B218-BC7842853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BE39B1-5A73-45F8-A736-A75ADF765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4DDD-7D3B-4CA4-ADF8-FA9163456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477909-1D2D-4875-9D20-46725F65B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595C71-0BDD-4673-B698-FD1713ED4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B274B7-E751-4760-976B-9BFB11B58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393722-0514-4712-BB5A-A320F7D2D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80D8B6-B0EB-4196-84FC-D8CA1C00C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1C38F0-DC40-4715-9D15-04F5F21A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B42C4B-BAA9-451B-B5AD-88DAFBBF9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1F92BD-663D-4BEF-84AC-626E4988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C98119-EC1C-4374-83BB-F4621964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5A7586-9B74-4834-B0CF-83C78273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CD6F8-238F-405F-A752-8523AD9F8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22C471-60F6-45B4-8008-E86F0CD79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63F01E-C314-4872-8D75-9D3092BCC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D2B4EE-C7DB-4AC2-9DFA-7A912DD48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22802A-3CD2-44F9-9C8E-9E1E0381D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6D1012-7704-4F8A-AE8C-2F14FFDE9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3CAAD6-34D0-45CE-9F91-39638D58D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496C4B-D45C-4677-AE1D-87F1436A8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10E544-34EE-487F-8A53-56FCBE185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FAB165-F754-4EDD-8713-9DA03022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5B8BF2-3419-4A64-96F1-DA32C80D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214D4-1E70-47F5-9D0E-B0A6BCD76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63DFB2-44D8-433D-A355-0CC53707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002AA5-9532-40D0-ABFB-1F0EAE58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92D877-F913-485E-8BAF-E5D96653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FD85EB-E99B-4CFC-B2F0-C87F39528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23144F-1183-4E94-90E5-2876B357E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614AD2-40EE-4A3D-82E2-8FBEAD7C9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F8237C-8F01-4B08-9DEC-32B837554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13393D-5938-409D-B074-A620AE3D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0E9FEA-0BBE-4B84-B985-26FB9A372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15D315-8E78-48B6-A74D-C2FCE97F8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868BA-E6DB-46DC-8C7C-2EDE4359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ED5CB5-B78D-4EFE-8987-D34E248AB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51EC20-7DB0-4E0B-9981-40CF09C3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939ED4-8300-4B9C-B670-2ADAEE3F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2A4D58-2DCB-4D37-A961-02E66876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AFF7D3-565A-46E9-9938-10BAB43A7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D233EF-D992-4A56-9711-80842C7A5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143CD6-C4AC-4106-9646-75DF45959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A025D1-EBA2-495C-8179-71F56DB68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CBBFC2-CBDA-400C-83D4-349DD2DE7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49ABBD-B718-47CF-ACCB-9FFC66A10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12326-F36A-4147-B133-0114B7947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B6BA47-49B2-456A-AA78-0FBFF2B03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C89465-40D8-4E0B-B6DF-E0BEB50D4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E4EDF5-90F3-4844-9EDE-ABB237E62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A0541E-7DF2-474A-AF17-F4E4D4D9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92E73E-36E3-41D7-A2DE-E92C75B8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435A7F-B61C-4A31-9702-B54D01AD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EEC735-DB14-4863-BD43-80C459921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000E00-3954-4B2A-AB87-96E0E8D4B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B93A1E-0DA1-4730-982D-A2CDBE885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069C39-9F1C-48F8-AFEE-C1CD645AB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8A6EA-47FD-44DC-84C2-EE420F2E1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0E7550-789D-45FE-80A4-A83253FF1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6B2A1B-1260-4C1A-947C-83B0EB306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15D644-3AD9-46C4-A5C6-20CFD1118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26406E-8C50-44F5-ADB9-857FE44FB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950779-87F3-4101-9288-53AD23C7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D1AA13-10DA-4D04-8744-390098F1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20B67D-C28A-40A7-9093-AFE392C6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D3C701-8AE9-4D0C-978F-6AAD4CEE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DAABC0-DCC7-43E6-8ACC-837CBD444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17E0BA-D418-4611-AC5E-46ADB8601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EEB55-0D1D-4033-8490-2D59764BC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513568-8D8F-45A6-9940-FF3980319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9BFC4A-043C-4468-AECA-C44264B4C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636AEC-6129-48DD-BCE6-69240B163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D04101-2FF5-431A-997F-96B571CC5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89CB96-3CC9-4607-8715-7371B8287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86BE64-EE4B-4E43-B71B-AF3C1AEFA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7C45B4-3CED-4CE1-9E04-7AB5384BE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C74396-4AC4-4109-AA89-F1E19EC2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C80D9A-36B5-42FA-A928-4A344168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61B838-7174-418D-AE16-BDA44EF7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89355-8D07-450A-90F8-8DAF7DB8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953C8D-D5F5-49B3-8BCE-EDCEEC66D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2C8286-A9EE-4E7B-8E7A-C7A6C5701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654272-80F5-4892-BE02-78F5A9798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C2835A-E3E8-4DD4-8D2D-6A088643E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8F32E6-19D9-46A1-82E9-4F27CE6FA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F02C4F-F2B9-4138-84B5-FD8C2EDE6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E81B01-1480-4226-AC7B-4EA8AC27A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A9BD33-FA0E-42FC-B454-75254020A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4EEE23-B0AD-4848-8961-C4B0BA1C1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7E746E-8C7B-4416-A885-381F393E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C6FA-E174-42A8-955A-D19C5E0A5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597C0-4BF8-498D-B61E-0DF18AE1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267CC2-D947-4D0D-ACD6-6C1C79B6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3EBF86-32B7-4360-8C5E-9CD9D90D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FA3181-9B2A-4015-AB71-212C76143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BB5EC6-B4CA-4AF6-8F8D-456795432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B098F2-2B74-4B66-A60B-D5A5E9C35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0E8315-7220-4BC6-807E-F10E129D4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0F788E-F35A-4FA3-8FAD-AE54FD867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303554-3287-4870-B15B-6EA1CCB9B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9A4CC3-E358-461A-8FBD-04AEEB27E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DC9A52-D894-42F0-96FD-66C50CB1D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439BD-97DE-41B0-9CCE-D627BA87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12FFE0-BF95-4BD1-848E-61EC5892A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F38F16-7FB8-465B-B1DA-203A1A2A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3C49C4-2E74-49BD-895A-831AADE4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4B9DDC-2391-49F1-8806-2E5CF202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38A1C8-F916-4BF3-A652-92F9BFF4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BDB885-33FD-4D3D-89BF-7F7305068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11BE49-76B8-429D-9BB6-F52BC7E68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0DE306-DE81-47F3-8930-40D14B032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55E1A2-E7C0-42FF-B09B-F54B5DEC7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197E4A-95E3-4D0E-8621-F44C48B8B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CC653-629B-4D58-BE65-E33D252AD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A17463-5A7A-4904-89D3-9ED7750CD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6AAB94-802B-40D0-9541-6674C1F74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D777D8-98D6-4E48-8984-F57C559BA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4B72E8-DE34-47EE-9E25-8DD242B7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F3C753-0EB1-4E09-B55F-AEBFFB58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1E7708-06F7-4466-9873-72C3272D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152C31-3293-4601-B2D8-27725FA57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F200DC-B136-44A4-81E4-83B172423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2864F7-C942-453E-8B5F-58DCA8B85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2B6431-5BBF-487C-A980-8995F8773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9F4B0-352E-4192-9B5F-1BD5FDB6D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1E0540-C78C-4E98-BFCD-47DA898A2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B79CB6-6011-4B3C-9387-B0939F277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D08666-3941-43E4-AA85-FFCF66E6D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6CF8E6-52B8-4DE8-909F-3C1542B64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72EB39-2EF9-4B81-88D9-4FF571889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CD0E8C-6D0F-4C79-87F4-42FCF440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3C8F05-9AC0-42A9-8985-9ECFE860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3322CE-A51E-44BE-8649-719E48D0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CAA9B7-08DE-428C-A090-8C9CDECF5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2186FE-DCBC-4F04-8D57-EC4381E4F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484A7-17FD-48AC-9560-83C96BA12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FA1403-94FF-41D0-B725-03C3F461C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0C076C-4FE5-4809-9088-977B08A10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DBC636-673F-4EB4-9E7E-223CEFE5A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5442FF-DBA7-419B-843A-6DC9D098B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3AEA20-9430-4241-B66C-3E982083C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06536C-EA68-4F7B-B6D5-70CA211E6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097340-24DB-4F18-89F9-FE8D0CB72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06AB51-54D6-4AD9-9793-203B4747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D65150-731D-45AE-95F3-3576BF4B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D9026E-800E-4B8E-93B8-499567DC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E2BE3-FB41-4D6D-910C-3C0806576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4D173B-95C1-4959-8C29-1E60E4DF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1442D9-05E1-413C-AD81-082802B61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C03C2C-CC0D-42AB-B8F8-A2FD66BF6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BCDD702-E8E7-42D9-A8B4-0CC470869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BC9CB83-01F0-4D89-8D2C-DB1CCC155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CFA3C46-D2E8-4271-9005-18C43FD01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217A76E-F9C1-49D5-AEFE-6FD99CA55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FE39F1F-26A5-4DC1-B207-F4B3B5D84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4EFF6B5-4938-497C-B861-2235F20DC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99F970E-7983-491D-B776-ECFECF92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543BF-0265-411C-B629-CB114EA68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CDE5E73-0D81-4504-BD86-F8678627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4292E98-52C7-48F5-8329-A0799052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DBDE167-17F7-4C51-AE2D-047F552CE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705E688-88C7-457D-BBBC-3848265FF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4E36AF-A149-4D5E-ABE0-019D85C64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6C0E2D4-D68A-46C3-97B8-1772D0A7B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DB527AE-D4EE-4AB6-A25F-80FC661C6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1B11E46-0C55-4567-BA09-88A96683D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FB25A7-C92D-4F2D-9DB5-1AD066829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042BF7F-7D9A-489C-AC59-198A1522A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59ACF-E495-472F-BCAB-DB50FE65E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9424767-2D9F-4EC1-8A35-24FEE702B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C752B49-793B-485A-B110-78ED5CBE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546E751-6530-415E-B0D7-1AAECF80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DC5797E-1879-4345-A6DB-2F1DFA44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5A41266-E126-468C-BC9A-925E2C68F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477F377-F4CE-4614-976C-3B71E5F97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2CC56A3-CD36-49B7-BB26-E81325C61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1EEA11E-2DC4-4961-A7F0-0AE7AAEA3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4294405-B871-47B1-907D-7EFCC2125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B46744F-E946-4EBA-A508-E45E30246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79041-700B-449A-AB22-A6EB01076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747CCBD-E473-4E56-9636-4727B2817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B0819AD-11B4-433C-9E7A-964E339C8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D655CD9-4AA2-457E-8249-63E2ABA05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A9BC8FD-75F1-4697-8FC5-ED4F93BC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E18CD87-250A-4413-931D-EA76DD1D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37696FA-00A6-4027-9789-DF2C2A46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11A8B21-B980-4413-A87E-8279BE61E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97A4869-42C7-4A2D-997D-D4A735602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2E96FAE-0C72-492A-9301-D69F241FD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500BDC3-5FCC-4D17-A31F-B4BA879D7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0779D-7F1E-46AC-9060-0FABA2E2E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6990A20-3D4B-4C3D-84BE-41107384F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237B820-FD8E-4134-B301-F79A25763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79713C8-01D9-474C-898D-7DEEEAC02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224C652-AF13-4A08-B9FB-CFD8DD7BC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AD05D0D-0A26-48A4-B4E0-D56B75838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C5B0D9A-0CAC-4EFC-A79C-81F5254E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9291F8B-EE49-45EF-AA00-F2C91457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3F014DB-5530-49E4-B3A2-35A22DB8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E072384-6976-4529-ABDA-6B6784969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79CEF32-8B2C-470F-8A41-2234C4FAF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53DC-6E3F-46EA-84CD-BEE6BB8D5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7A83A-A1EF-4615-A20B-961CFA046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BC92BBD-1070-48A0-A64B-991C1FCC2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D08A789-5E49-440F-AC91-0770C29A4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633FE35-ED16-4559-9727-F242B051D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C2FDAF6-72BB-4F10-96A3-D1E5AEA00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BDDA07A-F2D8-4848-8736-0E9028308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670CC67-7D04-46ED-B3F3-3C1E15A53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E643DDE-4306-4F1A-99AD-104F260D2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569EC12-AC9F-4546-A929-C30CC360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2941135-4ED7-4C3B-990F-ECFCDC18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60C3E99-72D4-4ABD-A614-C939504E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2C6C6-493D-4CA0-8683-514728D8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CF3BFE9-39AD-4DE2-9769-DE30748CC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10D93EF-B0C2-483C-9602-12726C4EC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B469D51-D3E1-40A9-B8F5-09C9B4757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621EC0A-6093-467D-8852-B81D78DFB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6176083-CC62-4879-995C-20C16561C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B0289E1-1EB5-4C41-A98F-912DD9999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E638049-5AC7-420A-9B2D-3B3900629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80100F2-FBE8-4918-8002-0CE1B1FB3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882F5C9-87A2-4EC5-94AF-E5A591AFD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5ECCA1E-8852-4607-95E6-364A13B4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7165B-31FF-44E8-B189-37FF6AD2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C5AC30F-B25D-42B0-9CD0-9D6F42FE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E597B65-58E1-49F4-A31F-F1F80C06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6ED8552-637E-4FBD-BB42-974B4F6EA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96D420D-3253-492F-9FAD-72517FAC6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92A1164-36E3-4C99-94CB-E5B385F8F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A1E7E04-577B-4C47-A3DE-02E7B2754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56395FE-6C01-4743-B014-9CDB12EF2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1390506-57BD-4F12-A76E-138517D2B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496AA5A-9A55-42BB-A040-707E97FA8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FE99629-D311-4462-B457-9A6CC6DA0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C1B40-B804-428A-857D-152F8EF8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6976483-703E-4274-B105-73C93964F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06FBB2A-CC64-4680-B006-A235FA83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D755AB4-797B-41D7-B5FB-1C7E83B5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0AAC564-7FCB-424F-9882-941F3669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D207760-E4A1-47B6-9A69-AF73C3624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470015E-10A6-4B89-A834-5D0DA0BA9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D3A5594-2C8B-42A1-B628-1821D52B1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E283B33-B0C1-4603-83C5-2D6AB20F1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02C8F4D-304A-42D3-91B4-8971828FD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1F2D481-B5EF-484B-B53E-C8D3DDA86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CCE2B-5A76-46BE-A09C-86AC921BF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34873DF-C2AE-49B5-87B4-AD3265304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D585ED3-1444-4AE1-9DF2-02C8A6360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5BD33F0-6647-49A7-ACE3-99117D097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00C7503-879C-442C-85D7-EFBEBBF3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03A6666-7319-4E5E-9F41-A6C02533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3BCFCD2-5865-424A-87CB-78FEBED2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FF43D82-8A0E-41A2-9D04-0B6650815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A858CC4-023D-4FD8-9B1F-D820F73D2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AC1686D-3CD4-40FA-AC99-BBE7ADBC9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4690A0C-4C40-432A-98FC-CAFE645F0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37948-70CD-472C-8C91-A748C8258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03F2CE7-D4C7-4FAB-8469-656F7D36F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1A24098-35E4-45ED-B930-6B707E9D1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7EE1258-489F-4239-946F-91E2D95EB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8BE0EC4-A4F2-4A21-9147-A1EA8088D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ED03869-AC68-4BE4-A1A2-59B1EA786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C35D8E9-A75F-44E7-990E-EE1D1DB0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7F74BE3-E173-44D8-BA15-66804591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9D92B5E-2A0C-427E-8695-01E037F2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E64C615-CE87-42FA-9691-91114E89A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3E1160E-BE46-4C4A-8DB8-3B7B83895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ED613-B3EC-499C-8F74-D044F1D36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2AE5B01-2203-4677-A0D1-31209BD9A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4A8E518-5523-4FBD-9279-929D8C140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A6C11DE-1B5B-42B2-A430-02A974C20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40164C7-3425-4C36-AC54-A63E7C174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9218EFF-887C-4647-A949-4896F4384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0BA7FA0-B9C9-4340-A124-201D9AFBC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6170C36-69E0-40AE-B2AF-901700167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A084B05-221C-4D83-B011-83E5682D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786819E-B1AB-4D74-84F4-B384F4DB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F526C75-BE8F-48EE-B869-33FE5958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291F7-97CB-42DE-BE8D-B48638B33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B59A8F3-4088-42E8-9BD2-C31C988B1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B8F554A-DE74-4E64-BC6B-504224717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268FBA1-9B44-4D28-A47E-B7BEDFD44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08721-3A4F-4AD4-87D6-73FF6B95E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96258-8F79-42C1-8F48-8C214A048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379A-1D1B-4E4B-8BA4-7854A349C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F5BE0-A2A0-43B3-AF64-1259481F9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7A176-1690-40C7-8F27-6919DC4CF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808A1-9DE6-4ECF-A33A-0E1393126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B59C3-2090-4EF9-9A9E-F2CE3121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3C2DF-18E8-4268-8D5D-B8835266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9A2F8-4A36-4B62-95B8-8D7B8923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F8DC3-97F3-45B8-B73A-118C8DAEA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BCBAF-7E48-431D-B7D1-E28E50073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A4204-0FBF-4695-92D1-9588DD660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93F8A-61BF-486D-BA52-D39104A3B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CF70-246A-4367-8EF8-582088B8F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7DF15-8055-4347-8AEF-5F895ECE3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4E145-0E82-4023-8F51-86245AD98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D46A6-CE93-4713-BD43-8E8F5541C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4B95D-B8B8-4CDB-9C8C-E688DFE33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27823-6038-40E6-86B9-2C90B14A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06ADC-ED78-4D41-A901-33C054D1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3D87B-8C09-41C3-A7BE-9CE870BD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621E9-1328-4384-85E1-4FC1B842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72FA7-E551-48DB-8084-B0746F2D4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8FE32-D2D8-438D-A020-C5CF706D1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E45D-C807-434A-82EC-DB1C10EF7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E0968-44A0-4CFB-A1FB-E57C4E371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AC9B4-AA68-477E-AB17-3660D84C4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5A87C-2A4E-45A4-865C-0D97FC64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7CBB6-D1E1-4AB8-A938-76F2D2BFE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AA7ED6-F4F2-4F97-A8BD-9FC97D0EA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F7A00-2AB3-4245-B77B-F420FC57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9DBB1-6C41-4026-870D-7E18565C9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559F1-4322-4CBD-B3FB-AB460445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0C0DC-A072-45B9-8247-13FE9C1E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FAFCE-D6E2-4822-B25E-C7A7FBB5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4410-D332-49CB-92F3-A1D046F9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6EF2F-EAE3-43BF-B230-0BBE76132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ED69D-1D58-4F0D-B422-39E27A980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04BED-8B1C-498E-9925-8DBA4CF95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8FE92C-0755-4A2A-87C8-832869DCB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7C29E-DE3B-41E6-8A75-CF2FE9304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09C09F-2D83-4673-B071-99613CC21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6C28C8-0AA3-47F2-B813-D97D92A29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80BBF-1A35-4E9D-A93D-13E54CCCD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3AEB6-0377-41F4-A96E-DF144CD5C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68F5C-864F-426F-B185-BE8EDD1B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50B9-9096-4EC3-A925-2B012047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333D2-7560-4B47-9FC9-E559FD40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28A4D-BC20-48A6-9E4F-C884D362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CCE14-FDA2-43C2-B8A8-087E4EA79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013A4-90CF-4F5A-B6B0-B4861C663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FCFF9-2C35-4BE6-93DE-C760128E6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B2BC97-7CC6-46F8-BD07-4C01046B0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99C245-090B-40DD-9276-25B42057E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6D5B9F-67BA-4C66-801B-D423A2BE0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61FEB6-E614-40C3-BC9E-A33BF2381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80476F-EF2D-412B-8DF3-F9152C8B9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02BD-EB2D-4526-B66C-66A5B7C0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664E40-F6DE-407C-B9D1-FE647E349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060A23-B13F-4BA4-85AD-27719BDD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727552-9F4B-4843-B5B2-C03C96FD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825D1E-AC30-4ECA-A93D-692254FA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BED89B-70F8-44E3-AD8D-8DE2562E9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69733E-BBCA-48F2-8B3E-DFD5AA4DD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C032FA-1A16-4B8B-BEC9-2160394E4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1D3DEC-6991-4B7B-BC9E-A4EC857F7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EAA723-E49C-479B-AA72-BD1A78D05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76E3B2-BFDF-404D-944C-6BC1D4289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5B2D8-B998-4EDA-8A99-AD242DDB1BF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61DAE-C7B6-4382-A2F9-CBD64D52EDB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EE77C-444C-416D-B61E-67C5DE13E41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5A9ED-6C78-476F-953D-6FA0CF2CC7C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6D6C4-BECD-457B-AB7E-E8FA2706ED9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53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C06B9-3CD9-44C8-99A6-0EE84EED26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DA8D2-2221-41EF-835F-1C89BB2C61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8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5BBE1-328C-4BDD-A45D-E481D96872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BF7D9-CAF4-4CD8-8D20-60E389E963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62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4048E-4859-44E7-86E1-5BF294CC02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1999-0357-4004-9C0D-02A8AB53A0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7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43B9A-898B-4A31-A7B8-853E59BCD5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EA95A-1EB4-4C5F-A55A-7836961FD2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1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9A00C-33FF-44EB-ADFF-669FB24465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DE0F0-1E43-4544-AEB5-66008C0A819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75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28910-BBE2-4385-8793-4DC302844C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59EE9-F08E-40C8-AAA1-7BDBA0764F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35AC9-E510-44B5-9EF3-0926094855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78B4A-B841-41D4-8CCD-A90AB01640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1EA2D-7D97-49D8-B887-90C9820867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E7FFB-C103-4B84-9470-2AAD1F9959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E7703-0D4B-49E5-9AE4-BACE597684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9E19A-B07C-4FCF-81F1-92AB094F72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8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E56F9-5A1E-40CE-ACA4-E6D0AFDF3B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131AB-60CC-4B35-B720-6305363951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3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2ACFD-57F4-4366-92E6-CFD983E393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39802-A2BA-48AA-B2C2-15C49E5C4B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97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816A7-E6BE-40A2-A34B-CACC815BD6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F1787-806F-421E-8CC6-AA29F33E4F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02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AE45C-0682-436D-B108-91CD1D1E33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B82AB-6C8A-4147-BCAD-082340D77E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06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77BCA-9948-4F63-84BA-A3A96A143F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59030-F4B8-4574-805F-680833D06B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49404-4AA3-4108-B635-D94B48EC8F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EFFC8-3EBE-4ECD-98A4-F7AE9BAC0D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15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9E6AD-FB10-4D3E-BF93-BF359D4F48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EBB38-CAD5-4624-9B63-AC193E3B41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19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2266C-09DD-49EA-A16C-01C941298C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90B0D-B9D5-4E7D-A6AD-640F9F228C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3D54-0726-4A51-B253-508DA85DA38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24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A6DA1-C6CD-464E-B5EF-6C43093F12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DE32B-1DBC-4859-B663-64C032B50A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128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5815E-96B3-41C9-B9B6-2971F05D10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45B58-CDE1-431D-B9D6-FDEDB6354F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FE32C-A292-432A-BB98-207FA6A351B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81B8E-83A6-4FD7-BA95-A4F2AD761EA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D1801-8084-4EE7-8EBD-A56CA50537C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BB59B-B3CF-4C16-93AD-AA17E8362D8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503C5-156C-41DF-A238-C0D052B1BF4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1C9ED-1E95-4944-BA1C-CA253FAF6A8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图片 40984" descr=""/>
          <p:cNvPicPr/>
          <p:nvPr/>
        </p:nvPicPr>
        <p:blipFill>
          <a:blip r:embed="rId1"/>
          <a:stretch/>
        </p:blipFill>
        <p:spPr>
          <a:xfrm>
            <a:off x="2446200" y="1146240"/>
            <a:ext cx="3515040" cy="399960"/>
          </a:xfrm>
          <a:prstGeom prst="rect">
            <a:avLst/>
          </a:prstGeom>
          <a:ln w="0">
            <a:noFill/>
          </a:ln>
        </p:spPr>
      </p:pic>
      <p:pic>
        <p:nvPicPr>
          <p:cNvPr id="1332" name="图片 40985" descr=""/>
          <p:cNvPicPr/>
          <p:nvPr/>
        </p:nvPicPr>
        <p:blipFill>
          <a:blip r:embed="rId2"/>
          <a:stretch/>
        </p:blipFill>
        <p:spPr>
          <a:xfrm>
            <a:off x="2771640" y="2565360"/>
            <a:ext cx="3019680" cy="3724200"/>
          </a:xfrm>
          <a:prstGeom prst="rect">
            <a:avLst/>
          </a:prstGeom>
          <a:ln w="0">
            <a:noFill/>
          </a:ln>
        </p:spPr>
      </p:pic>
      <p:sp>
        <p:nvSpPr>
          <p:cNvPr id="1333" name="矩形 40986"/>
          <p:cNvSpPr/>
          <p:nvPr/>
        </p:nvSpPr>
        <p:spPr>
          <a:xfrm>
            <a:off x="3862440" y="4943520"/>
            <a:ext cx="2014560" cy="296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矩形 40987"/>
          <p:cNvSpPr/>
          <p:nvPr/>
        </p:nvSpPr>
        <p:spPr>
          <a:xfrm>
            <a:off x="2690640" y="5283360"/>
            <a:ext cx="3216600" cy="296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矩形 40988"/>
          <p:cNvSpPr/>
          <p:nvPr/>
        </p:nvSpPr>
        <p:spPr>
          <a:xfrm>
            <a:off x="2670120" y="5643720"/>
            <a:ext cx="3216240" cy="296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矩形 40989"/>
          <p:cNvSpPr/>
          <p:nvPr/>
        </p:nvSpPr>
        <p:spPr>
          <a:xfrm>
            <a:off x="2608200" y="5981760"/>
            <a:ext cx="3216240" cy="296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1" name="图片 132097" descr=""/>
          <p:cNvPicPr/>
          <p:nvPr/>
        </p:nvPicPr>
        <p:blipFill>
          <a:blip r:embed="rId1"/>
          <a:stretch/>
        </p:blipFill>
        <p:spPr>
          <a:xfrm>
            <a:off x="233280" y="880920"/>
            <a:ext cx="8067600" cy="3648240"/>
          </a:xfrm>
          <a:prstGeom prst="rect">
            <a:avLst/>
          </a:prstGeom>
          <a:ln w="0">
            <a:noFill/>
          </a:ln>
        </p:spPr>
      </p:pic>
      <p:sp>
        <p:nvSpPr>
          <p:cNvPr id="1382" name="矩形 132098"/>
          <p:cNvSpPr/>
          <p:nvPr/>
        </p:nvSpPr>
        <p:spPr>
          <a:xfrm>
            <a:off x="831960" y="2147760"/>
            <a:ext cx="69660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矩形 132099"/>
          <p:cNvSpPr/>
          <p:nvPr/>
        </p:nvSpPr>
        <p:spPr>
          <a:xfrm>
            <a:off x="831960" y="2763720"/>
            <a:ext cx="69660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矩形 132100"/>
          <p:cNvSpPr/>
          <p:nvPr/>
        </p:nvSpPr>
        <p:spPr>
          <a:xfrm>
            <a:off x="863640" y="3390840"/>
            <a:ext cx="69660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矩形 132101"/>
          <p:cNvSpPr/>
          <p:nvPr/>
        </p:nvSpPr>
        <p:spPr>
          <a:xfrm>
            <a:off x="884160" y="4068720"/>
            <a:ext cx="69660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4" dur="10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9" dur="10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4" dur="10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10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6" name="图片 131073" descr=""/>
          <p:cNvPicPr/>
          <p:nvPr/>
        </p:nvPicPr>
        <p:blipFill>
          <a:blip r:embed="rId1"/>
          <a:stretch/>
        </p:blipFill>
        <p:spPr>
          <a:xfrm>
            <a:off x="392040" y="974880"/>
            <a:ext cx="8105760" cy="4476600"/>
          </a:xfrm>
          <a:prstGeom prst="rect">
            <a:avLst/>
          </a:prstGeom>
          <a:ln w="0">
            <a:noFill/>
          </a:ln>
        </p:spPr>
      </p:pic>
      <p:sp>
        <p:nvSpPr>
          <p:cNvPr id="1387" name="矩形 131074"/>
          <p:cNvSpPr/>
          <p:nvPr/>
        </p:nvSpPr>
        <p:spPr>
          <a:xfrm>
            <a:off x="5280120" y="3822840"/>
            <a:ext cx="9874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矩形 131075"/>
          <p:cNvSpPr/>
          <p:nvPr/>
        </p:nvSpPr>
        <p:spPr>
          <a:xfrm>
            <a:off x="2681280" y="4468680"/>
            <a:ext cx="98748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矩形 131076"/>
          <p:cNvSpPr/>
          <p:nvPr/>
        </p:nvSpPr>
        <p:spPr>
          <a:xfrm>
            <a:off x="6924600" y="4448160"/>
            <a:ext cx="9874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6" dur="10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1" dur="10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6" dur="10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0" name="图片 130049" descr=""/>
          <p:cNvPicPr/>
          <p:nvPr/>
        </p:nvPicPr>
        <p:blipFill>
          <a:blip r:embed="rId1"/>
          <a:stretch/>
        </p:blipFill>
        <p:spPr>
          <a:xfrm>
            <a:off x="638280" y="1047600"/>
            <a:ext cx="7638840" cy="4152960"/>
          </a:xfrm>
          <a:prstGeom prst="rect">
            <a:avLst/>
          </a:prstGeom>
          <a:ln w="0">
            <a:noFill/>
          </a:ln>
        </p:spPr>
      </p:pic>
      <p:sp>
        <p:nvSpPr>
          <p:cNvPr id="1391" name="矩形 130050"/>
          <p:cNvSpPr/>
          <p:nvPr/>
        </p:nvSpPr>
        <p:spPr>
          <a:xfrm>
            <a:off x="728640" y="2897280"/>
            <a:ext cx="7615440" cy="4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矩形 130051"/>
          <p:cNvSpPr/>
          <p:nvPr/>
        </p:nvSpPr>
        <p:spPr>
          <a:xfrm>
            <a:off x="760320" y="3543480"/>
            <a:ext cx="7615440" cy="44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矩形 130052"/>
          <p:cNvSpPr/>
          <p:nvPr/>
        </p:nvSpPr>
        <p:spPr>
          <a:xfrm>
            <a:off x="873000" y="4118040"/>
            <a:ext cx="7615440" cy="4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矩形 130053"/>
          <p:cNvSpPr/>
          <p:nvPr/>
        </p:nvSpPr>
        <p:spPr>
          <a:xfrm>
            <a:off x="893880" y="4765680"/>
            <a:ext cx="7615080" cy="4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3" dur="10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8" dur="10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3" dur="10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8" dur="10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5" name="图片 129025" descr=""/>
          <p:cNvPicPr/>
          <p:nvPr/>
        </p:nvPicPr>
        <p:blipFill>
          <a:blip r:embed="rId1"/>
          <a:stretch/>
        </p:blipFill>
        <p:spPr>
          <a:xfrm>
            <a:off x="642960" y="735120"/>
            <a:ext cx="6334200" cy="6048360"/>
          </a:xfrm>
          <a:prstGeom prst="rect">
            <a:avLst/>
          </a:prstGeom>
          <a:ln w="0">
            <a:noFill/>
          </a:ln>
        </p:spPr>
      </p:pic>
      <p:sp>
        <p:nvSpPr>
          <p:cNvPr id="1396" name="矩形 129026"/>
          <p:cNvSpPr/>
          <p:nvPr/>
        </p:nvSpPr>
        <p:spPr>
          <a:xfrm>
            <a:off x="749160" y="730080"/>
            <a:ext cx="6113520" cy="400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矩形 129027"/>
          <p:cNvSpPr/>
          <p:nvPr/>
        </p:nvSpPr>
        <p:spPr>
          <a:xfrm>
            <a:off x="668160" y="1347840"/>
            <a:ext cx="611352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矩形 129028"/>
          <p:cNvSpPr/>
          <p:nvPr/>
        </p:nvSpPr>
        <p:spPr>
          <a:xfrm>
            <a:off x="617400" y="1944720"/>
            <a:ext cx="611352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矩形 129029"/>
          <p:cNvSpPr/>
          <p:nvPr/>
        </p:nvSpPr>
        <p:spPr>
          <a:xfrm>
            <a:off x="504720" y="2611440"/>
            <a:ext cx="611352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矩形 129030"/>
          <p:cNvSpPr/>
          <p:nvPr/>
        </p:nvSpPr>
        <p:spPr>
          <a:xfrm>
            <a:off x="596880" y="3257640"/>
            <a:ext cx="611352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矩形 129031"/>
          <p:cNvSpPr/>
          <p:nvPr/>
        </p:nvSpPr>
        <p:spPr>
          <a:xfrm>
            <a:off x="617400" y="3875040"/>
            <a:ext cx="611352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矩形 129032"/>
          <p:cNvSpPr/>
          <p:nvPr/>
        </p:nvSpPr>
        <p:spPr>
          <a:xfrm>
            <a:off x="617400" y="4449600"/>
            <a:ext cx="6113520" cy="400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矩形 129033"/>
          <p:cNvSpPr/>
          <p:nvPr/>
        </p:nvSpPr>
        <p:spPr>
          <a:xfrm>
            <a:off x="771480" y="5118120"/>
            <a:ext cx="611352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矩形 129034"/>
          <p:cNvSpPr/>
          <p:nvPr/>
        </p:nvSpPr>
        <p:spPr>
          <a:xfrm>
            <a:off x="853920" y="5662440"/>
            <a:ext cx="6113520" cy="400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矩形 129035"/>
          <p:cNvSpPr/>
          <p:nvPr/>
        </p:nvSpPr>
        <p:spPr>
          <a:xfrm>
            <a:off x="853920" y="6340320"/>
            <a:ext cx="6113520" cy="400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10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0" dur="10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5" dur="10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0" dur="10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5" dur="10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0" dur="10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5" dur="10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0" dur="10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5" dur="10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0" dur="10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7" name="图片 140289" descr=""/>
          <p:cNvPicPr/>
          <p:nvPr/>
        </p:nvPicPr>
        <p:blipFill>
          <a:blip r:embed="rId1"/>
          <a:stretch/>
        </p:blipFill>
        <p:spPr>
          <a:xfrm>
            <a:off x="322200" y="979560"/>
            <a:ext cx="8524800" cy="4010040"/>
          </a:xfrm>
          <a:prstGeom prst="rect">
            <a:avLst/>
          </a:prstGeom>
          <a:ln w="0">
            <a:noFill/>
          </a:ln>
        </p:spPr>
      </p:pic>
      <p:sp>
        <p:nvSpPr>
          <p:cNvPr id="1338" name="矩形 140290"/>
          <p:cNvSpPr/>
          <p:nvPr/>
        </p:nvSpPr>
        <p:spPr>
          <a:xfrm>
            <a:off x="6789600" y="1757520"/>
            <a:ext cx="801720" cy="307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矩形 140291"/>
          <p:cNvSpPr/>
          <p:nvPr/>
        </p:nvSpPr>
        <p:spPr>
          <a:xfrm>
            <a:off x="3378240" y="2168640"/>
            <a:ext cx="1325520" cy="307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矩形 140292"/>
          <p:cNvSpPr/>
          <p:nvPr/>
        </p:nvSpPr>
        <p:spPr>
          <a:xfrm>
            <a:off x="5013360" y="2598840"/>
            <a:ext cx="801720" cy="307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矩形 140293"/>
          <p:cNvSpPr/>
          <p:nvPr/>
        </p:nvSpPr>
        <p:spPr>
          <a:xfrm>
            <a:off x="6492960" y="3009960"/>
            <a:ext cx="801720" cy="307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矩形 140294"/>
          <p:cNvSpPr/>
          <p:nvPr/>
        </p:nvSpPr>
        <p:spPr>
          <a:xfrm>
            <a:off x="8271000" y="431496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3" name="图片 139265" descr=""/>
          <p:cNvPicPr/>
          <p:nvPr/>
        </p:nvPicPr>
        <p:blipFill>
          <a:blip r:embed="rId1"/>
          <a:stretch/>
        </p:blipFill>
        <p:spPr>
          <a:xfrm>
            <a:off x="461880" y="893880"/>
            <a:ext cx="8524800" cy="5095800"/>
          </a:xfrm>
          <a:prstGeom prst="rect">
            <a:avLst/>
          </a:prstGeom>
          <a:ln w="0">
            <a:noFill/>
          </a:ln>
        </p:spPr>
      </p:pic>
      <p:sp>
        <p:nvSpPr>
          <p:cNvPr id="1344" name="矩形 139266"/>
          <p:cNvSpPr/>
          <p:nvPr/>
        </p:nvSpPr>
        <p:spPr>
          <a:xfrm>
            <a:off x="8402760" y="89532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矩形 139267"/>
          <p:cNvSpPr/>
          <p:nvPr/>
        </p:nvSpPr>
        <p:spPr>
          <a:xfrm>
            <a:off x="8393040" y="355608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矩形 139268"/>
          <p:cNvSpPr/>
          <p:nvPr/>
        </p:nvSpPr>
        <p:spPr>
          <a:xfrm>
            <a:off x="8372520" y="446076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矩形 139269"/>
          <p:cNvSpPr/>
          <p:nvPr/>
        </p:nvSpPr>
        <p:spPr>
          <a:xfrm>
            <a:off x="5148360" y="5221440"/>
            <a:ext cx="8128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矩形 139270"/>
          <p:cNvSpPr/>
          <p:nvPr/>
        </p:nvSpPr>
        <p:spPr>
          <a:xfrm>
            <a:off x="7594560" y="5221440"/>
            <a:ext cx="13478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矩形 139271"/>
          <p:cNvSpPr/>
          <p:nvPr/>
        </p:nvSpPr>
        <p:spPr>
          <a:xfrm>
            <a:off x="800280" y="563256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0" name="图片 138241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8515440" cy="3257640"/>
          </a:xfrm>
          <a:prstGeom prst="rect">
            <a:avLst/>
          </a:prstGeom>
          <a:ln w="0">
            <a:noFill/>
          </a:ln>
        </p:spPr>
      </p:pic>
      <p:sp>
        <p:nvSpPr>
          <p:cNvPr id="1351" name="矩形 138242"/>
          <p:cNvSpPr/>
          <p:nvPr/>
        </p:nvSpPr>
        <p:spPr>
          <a:xfrm>
            <a:off x="5146560" y="1212840"/>
            <a:ext cx="10908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矩形 138243"/>
          <p:cNvSpPr/>
          <p:nvPr/>
        </p:nvSpPr>
        <p:spPr>
          <a:xfrm>
            <a:off x="893880" y="2075040"/>
            <a:ext cx="1512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矩形 138244"/>
          <p:cNvSpPr/>
          <p:nvPr/>
        </p:nvSpPr>
        <p:spPr>
          <a:xfrm>
            <a:off x="636480" y="3338640"/>
            <a:ext cx="42055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矩形 138245"/>
          <p:cNvSpPr/>
          <p:nvPr/>
        </p:nvSpPr>
        <p:spPr>
          <a:xfrm>
            <a:off x="1057320" y="3740040"/>
            <a:ext cx="42051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5" name="图片 137217" descr=""/>
          <p:cNvPicPr/>
          <p:nvPr/>
        </p:nvPicPr>
        <p:blipFill>
          <a:blip r:embed="rId1"/>
          <a:stretch/>
        </p:blipFill>
        <p:spPr>
          <a:xfrm>
            <a:off x="779400" y="903240"/>
            <a:ext cx="5705640" cy="2867040"/>
          </a:xfrm>
          <a:prstGeom prst="rect">
            <a:avLst/>
          </a:prstGeom>
          <a:ln w="0">
            <a:noFill/>
          </a:ln>
        </p:spPr>
      </p:pic>
      <p:sp>
        <p:nvSpPr>
          <p:cNvPr id="1356" name="矩形 137218"/>
          <p:cNvSpPr/>
          <p:nvPr/>
        </p:nvSpPr>
        <p:spPr>
          <a:xfrm>
            <a:off x="790560" y="1357200"/>
            <a:ext cx="49942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矩形 137219"/>
          <p:cNvSpPr/>
          <p:nvPr/>
        </p:nvSpPr>
        <p:spPr>
          <a:xfrm>
            <a:off x="955800" y="1716120"/>
            <a:ext cx="49942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矩形 137220"/>
          <p:cNvSpPr/>
          <p:nvPr/>
        </p:nvSpPr>
        <p:spPr>
          <a:xfrm>
            <a:off x="1058760" y="2198520"/>
            <a:ext cx="499428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矩形 137221"/>
          <p:cNvSpPr/>
          <p:nvPr/>
        </p:nvSpPr>
        <p:spPr>
          <a:xfrm>
            <a:off x="853920" y="3009960"/>
            <a:ext cx="558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矩形 137222"/>
          <p:cNvSpPr/>
          <p:nvPr/>
        </p:nvSpPr>
        <p:spPr>
          <a:xfrm>
            <a:off x="884160" y="3462480"/>
            <a:ext cx="55800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1" name="图片 136193" descr=""/>
          <p:cNvPicPr/>
          <p:nvPr/>
        </p:nvPicPr>
        <p:blipFill>
          <a:blip r:embed="rId1"/>
          <a:stretch/>
        </p:blipFill>
        <p:spPr>
          <a:xfrm>
            <a:off x="306360" y="741240"/>
            <a:ext cx="8201160" cy="6010560"/>
          </a:xfrm>
          <a:prstGeom prst="rect">
            <a:avLst/>
          </a:prstGeom>
          <a:ln w="0">
            <a:noFill/>
          </a:ln>
        </p:spPr>
      </p:pic>
      <p:sp>
        <p:nvSpPr>
          <p:cNvPr id="1362" name="矩形 136194"/>
          <p:cNvSpPr/>
          <p:nvPr/>
        </p:nvSpPr>
        <p:spPr>
          <a:xfrm>
            <a:off x="7694640" y="1962000"/>
            <a:ext cx="36036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矩形 136195"/>
          <p:cNvSpPr/>
          <p:nvPr/>
        </p:nvSpPr>
        <p:spPr>
          <a:xfrm>
            <a:off x="7694640" y="384336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4" name="图片 135169" descr=""/>
          <p:cNvPicPr/>
          <p:nvPr/>
        </p:nvPicPr>
        <p:blipFill>
          <a:blip r:embed="rId1"/>
          <a:stretch/>
        </p:blipFill>
        <p:spPr>
          <a:xfrm>
            <a:off x="485640" y="1052640"/>
            <a:ext cx="8172720" cy="4752720"/>
          </a:xfrm>
          <a:prstGeom prst="rect">
            <a:avLst/>
          </a:prstGeom>
          <a:ln w="0">
            <a:noFill/>
          </a:ln>
        </p:spPr>
      </p:pic>
      <p:sp>
        <p:nvSpPr>
          <p:cNvPr id="1365" name="矩形 135170"/>
          <p:cNvSpPr/>
          <p:nvPr/>
        </p:nvSpPr>
        <p:spPr>
          <a:xfrm>
            <a:off x="4110120" y="2908440"/>
            <a:ext cx="7920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矩形 135171"/>
          <p:cNvSpPr/>
          <p:nvPr/>
        </p:nvSpPr>
        <p:spPr>
          <a:xfrm>
            <a:off x="6772320" y="4757760"/>
            <a:ext cx="1449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7" name="图片 134145" descr=""/>
          <p:cNvPicPr/>
          <p:nvPr/>
        </p:nvPicPr>
        <p:blipFill>
          <a:blip r:embed="rId1"/>
          <a:stretch/>
        </p:blipFill>
        <p:spPr>
          <a:xfrm>
            <a:off x="299880" y="868320"/>
            <a:ext cx="8010720" cy="5400720"/>
          </a:xfrm>
          <a:prstGeom prst="rect">
            <a:avLst/>
          </a:prstGeom>
          <a:ln w="0">
            <a:noFill/>
          </a:ln>
        </p:spPr>
      </p:pic>
      <p:sp>
        <p:nvSpPr>
          <p:cNvPr id="1368" name="矩形 134146"/>
          <p:cNvSpPr/>
          <p:nvPr/>
        </p:nvSpPr>
        <p:spPr>
          <a:xfrm>
            <a:off x="852480" y="2106720"/>
            <a:ext cx="6000840" cy="4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矩形 134147"/>
          <p:cNvSpPr/>
          <p:nvPr/>
        </p:nvSpPr>
        <p:spPr>
          <a:xfrm>
            <a:off x="933480" y="2784600"/>
            <a:ext cx="6000840" cy="4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134148"/>
          <p:cNvSpPr/>
          <p:nvPr/>
        </p:nvSpPr>
        <p:spPr>
          <a:xfrm>
            <a:off x="912960" y="3390840"/>
            <a:ext cx="7468920" cy="420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矩形 134149"/>
          <p:cNvSpPr/>
          <p:nvPr/>
        </p:nvSpPr>
        <p:spPr>
          <a:xfrm>
            <a:off x="901800" y="4017960"/>
            <a:ext cx="7468920" cy="420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矩形 134150"/>
          <p:cNvSpPr/>
          <p:nvPr/>
        </p:nvSpPr>
        <p:spPr>
          <a:xfrm>
            <a:off x="1023840" y="4624560"/>
            <a:ext cx="4438800" cy="4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矩形 134151"/>
          <p:cNvSpPr/>
          <p:nvPr/>
        </p:nvSpPr>
        <p:spPr>
          <a:xfrm>
            <a:off x="1589040" y="5240160"/>
            <a:ext cx="4438800" cy="420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矩形 134152"/>
          <p:cNvSpPr/>
          <p:nvPr/>
        </p:nvSpPr>
        <p:spPr>
          <a:xfrm>
            <a:off x="1558800" y="5837400"/>
            <a:ext cx="4438800" cy="4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5" name="图片 133121" descr=""/>
          <p:cNvPicPr/>
          <p:nvPr/>
        </p:nvPicPr>
        <p:blipFill>
          <a:blip r:embed="rId1"/>
          <a:stretch/>
        </p:blipFill>
        <p:spPr>
          <a:xfrm>
            <a:off x="262080" y="928800"/>
            <a:ext cx="8162640" cy="4162320"/>
          </a:xfrm>
          <a:prstGeom prst="rect">
            <a:avLst/>
          </a:prstGeom>
          <a:ln w="0">
            <a:noFill/>
          </a:ln>
        </p:spPr>
      </p:pic>
      <p:sp>
        <p:nvSpPr>
          <p:cNvPr id="1376" name="矩形 133122"/>
          <p:cNvSpPr/>
          <p:nvPr/>
        </p:nvSpPr>
        <p:spPr>
          <a:xfrm>
            <a:off x="882720" y="2117880"/>
            <a:ext cx="5187960" cy="42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矩形 133123"/>
          <p:cNvSpPr/>
          <p:nvPr/>
        </p:nvSpPr>
        <p:spPr>
          <a:xfrm>
            <a:off x="830160" y="2671920"/>
            <a:ext cx="5187960" cy="42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矩形 133124"/>
          <p:cNvSpPr/>
          <p:nvPr/>
        </p:nvSpPr>
        <p:spPr>
          <a:xfrm>
            <a:off x="830160" y="3371760"/>
            <a:ext cx="5187960" cy="42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矩形 133125"/>
          <p:cNvSpPr/>
          <p:nvPr/>
        </p:nvSpPr>
        <p:spPr>
          <a:xfrm>
            <a:off x="892080" y="3987720"/>
            <a:ext cx="5187960" cy="42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矩形 133126"/>
          <p:cNvSpPr/>
          <p:nvPr/>
        </p:nvSpPr>
        <p:spPr>
          <a:xfrm>
            <a:off x="871560" y="4654440"/>
            <a:ext cx="5187960" cy="42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10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10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10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10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10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30T09:51:20Z</dcterms:modified>
  <cp:revision>7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